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image3.gif" ContentType="image/gi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2DD-7665-4419-A7EA-2E801897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F35-BA51-4E7B-A0C2-8EA3E1C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68AEE-BB23-40B6-B174-CFD93841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DD54-0706-4169-BDC1-96A6D70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D3AFE-49F3-4109-8737-8885DA6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85909-F864-4AC6-8B49-D3A2C7B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27DBA-AF15-4B83-A769-48EBC7DE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E02B-17BA-45E1-8101-785180A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A863-C088-4193-AC5C-573B039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88D72-1D0D-4DD0-AA74-C30CE3CA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7B624-8C62-4308-9BFB-13B2456C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B7A1F-7119-40E5-B04F-0ED2717D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556-334C-4A6D-8AE8-DF6C4218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F1D73-F22A-4CDA-8120-031CEAF2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95728-9D9F-4338-AB76-1283C1CD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BFB17-1A20-45AE-86D5-C00FDB9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7590-6E87-4309-A536-5569070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CBB55-0BDA-425B-865E-359FC9B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CF8D9-198A-43A5-9308-A463D7F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50C54-F4F8-4C09-A413-713D235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D20F7-7C4F-49F4-A741-5E44F8A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3105C-F7B9-4D9B-88C4-3A8CB9A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E809E-697F-4B91-B257-8FAF16BF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FBC-0A27-4954-A118-B8A3F50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A2462-71EC-4BBD-AA03-99F6386B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46586-41DD-459E-8CAE-CC56EF11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19D2-83D7-4180-BEE2-6C58AF6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A4DB1-E16D-476F-8B65-0C1568C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DB3FF-91F5-49AE-B86D-20293F3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CC816-B76B-4560-AD72-6D17F0D2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2AD7-AE75-4E38-82F3-0D61915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6C6E-7310-49DD-A622-D6B5ED9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49F26-F1EE-43C8-B4C6-2DAC958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D483-E927-42A8-B297-D1A5C1B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4FDB-1B5B-4CAB-93D4-C04EDC13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6953-9887-4FFB-94D3-71C23B9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D075-D65C-4BFC-9FA0-32B492C9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AD668-725C-48F3-B8CF-E9F1B694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A54F-016B-43C2-B61C-0FCB4A8B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822CD-290E-4AAF-839A-4827444E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5261B-5034-493C-B3CD-FB53C2A4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49AB1-E827-41D0-A587-E84259E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FB905-FB1D-4022-B150-3CB066A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39FAC-BEDB-4F64-B69B-2D3A06A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467CA-44F2-4E2E-9C05-CC11048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AE6-7EB8-4066-B249-7380127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41BD7-13DC-498F-A732-43670B7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EF9A-952D-4A25-8860-05B5CD3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89EA1-765A-4BCF-85AF-49C7124E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11ACE-6E03-4CA6-A906-C74D6318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90F7A-0D6E-4A60-8282-9E321E2A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C9A5-E41B-4329-8773-3DE9185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6C74-0BC9-4EDE-B816-FF319C0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D302-B268-49F4-9FC5-08BD2F5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B85-94B1-4250-BCA6-4496C18A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4C8-C420-4214-B33E-7C07D6A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0ED-289D-4764-9057-86C9A0C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64E-18FD-459E-A1D5-7CE466F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E631-6D1C-425D-9FA1-94623BF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B49-99EF-4526-B13B-118CCCC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D5F-E002-43B5-AADB-CF0986D7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74F3-C6B6-400D-B76D-E117EC62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DBFD-E839-42C6-8840-DC7E43F8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289A-BB7E-460D-95F9-0A735BC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AAC9-D985-4349-9E00-254D1E36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E3C3-A9BD-4D36-A914-CDD6624F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B7D0-859A-4AAC-9F6F-930727F6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B07-6C90-407A-89B6-5D7DDAB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8D2F-331A-4BB9-AE93-0EEE9C62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483A-01C3-48F1-AB3C-822FE90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C440-9D77-4258-BEF0-64A9AF9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8F05-A6B5-4F19-8B54-CC6C057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29F0-8ABA-42EF-BF8D-45BB2EE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A377-8A67-4DC0-9B6B-41E8CE27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5D33-C1ED-4640-825A-085F766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C822-5A44-485F-A744-CE1AECC8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5B24-E9C7-4A24-91EF-405340B8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2BD8-EE81-4995-A92A-28E6EE35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ED-E812-4BAA-AA8B-4150537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CB85-B9E3-43C1-A056-642B0307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440E-F32D-488B-96FE-70FEA21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341E-682C-43AA-A20B-8668412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DD91-A67B-45AB-9E74-B370E46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DFC4-EAE0-48B8-B845-D20F606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862B3-D1F7-466E-AD23-F0BC2B4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5253-B01B-4F41-BDC2-2A56750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3409-889E-4125-827E-0A17AB6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07E7-F7E7-42D3-B4DE-12090DD7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D75F-F4F5-48D3-A890-2CBACD6A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813-F847-41F9-B5EF-F6EFEC42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528B-6B7B-4DBA-AAE5-3EA614C9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BA26-0CCB-4D8E-9910-945B2FB7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4251-A9C1-42C3-BBCD-BD7A3F9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F4DC-34B9-4AAB-835F-50E65AC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7CF4-DC1D-471B-9C4B-2CA2042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F2FE-71E2-43EF-AFAB-FF6A7FD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3923-5A58-4777-A025-13C6916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B597-D22B-470E-974F-227B0D1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4A77-4936-4101-94F2-F41906CB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CD24-CC86-4651-81DF-DBAD1A18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2E2-B2D4-44DB-8CF2-D702A8F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0C7B-C385-4760-AE22-CA7DFB8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89F9-6DFE-4F5A-B639-5A87053F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9776-0253-42E2-9F62-0E218B72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89DF-5E64-429B-B052-23CA43AD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ED92-5EB8-4BC7-A636-B82186A5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E080-4F21-4B37-823D-DB8C0EF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BDE8B-D64D-4579-8687-8A38876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7399-050A-4955-91B9-54E2675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6065-F283-4E16-BFE6-FC056E8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9785-BFA6-451F-9939-C68851A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37D-CFCD-456E-A312-E4BBF0D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F8D2-1C8A-44D6-AE11-CB3D19D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FD623-5FF9-4BFE-8941-C94565EC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2A1D-F2A3-4914-9911-C43B680D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8EED-85EB-4619-8A90-3B0DDEAE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8E0C-8CB3-4324-A8A2-9F8B1C31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E5D4A-097A-4539-A576-EB6BA8A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EEBE-26A4-4DE6-BDB0-3F279B7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A136E-42B3-451B-B69F-382A7C2B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DB0AD-510F-42B1-8584-48072D4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A09C-0516-44C6-B47F-7CFF75C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BA4-944C-42C3-8CFC-1A091E2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162D-36D6-46FB-97EC-7273415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5D6D-F850-4AA1-8AFF-25109AB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63D75-4CB5-4698-920A-C55ECD1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E5E7-D20F-4ACE-93AA-8EEEA2ED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C7BF-F47E-4D33-A183-7E460BC5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8389C-6368-4C96-BD3A-4DE39644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42BB-01F6-4A4F-80E2-CF093930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393B6-BE33-4C7B-8EF9-A164811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B9E8A-C861-4745-81E1-3A37BB5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5863-3397-4411-AD02-876A9E9D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ED8-04A4-42D2-97E1-2C4410DD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4F3B-FD24-4899-9EF5-D6E3903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4C84-201C-4A35-9EF3-335B6E6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CBBF-3D15-46E6-BB54-33444F6F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99269-1899-404C-8BCC-B021AB9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6C0D-3924-46C2-B4F8-193CC614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2DB31-AD3D-45AD-AECD-6C9CEEE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D44A-924E-4D72-B56E-EDCBD9A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69F23-69E9-45DC-8066-F999031A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3CD9D-FB97-41C2-8895-B09F4D4C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54808-A04A-4768-AB2D-0F050EF6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449-6BCC-4D91-A527-F21C21F8B30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632-BC28-487A-9EF6-98B124ED74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BCD-048F-4CE5-BCB4-88A53B582F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13DD-2438-45FF-A826-79F5E3B10F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02E-0D49-4B66-BB8E-017077B702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787-EF0B-4EE2-A2E8-CC4ABDD998A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411-4933-41E3-9609-5478D4CBA7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44F4-C8A3-44F3-9B60-0330B8087D1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87A-A1F4-4D99-8349-8B8F1EEA702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4149-0CA5-43F0-986F-BCC2DAC256C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63FF-CDFF-48B1-8AAB-D4FB0330DC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31EA-CA09-466B-A000-8D44F10FD9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&#24433;&#23376;&#29983;&#23383;.exe" TargetMode="External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4145760" y="1773360"/>
            <a:ext cx="18266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有一个好朋友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常常跟着我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会儿在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会儿在后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和他说说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就是不张口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459680" y="430200"/>
            <a:ext cx="11865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谜语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5621760" y="5719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谜底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7206120" y="57405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380360" y="44280"/>
            <a:ext cx="1749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9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图片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" y="601560"/>
            <a:ext cx="8767440" cy="62596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6564960" y="87624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左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107520" y="548496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3932280" y="836640"/>
            <a:ext cx="2368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想一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08960" y="3078000"/>
            <a:ext cx="2923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是怎么产生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1959120" y="2911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1978200" y="2565360"/>
            <a:ext cx="5473440" cy="37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前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后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左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什么情况下影子在右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51400" y="6429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说一说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4448880" y="3402000"/>
            <a:ext cx="77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为什么说影子是小黑狗、好朋友呢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4335480" y="765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讨论交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196800" y="1460520"/>
            <a:ext cx="4264920" cy="53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拍手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我们大家拍拍手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上面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下面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前面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后面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左边拍拍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右边拍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快快来，我们一起拍拍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4459320" y="4827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课堂游戏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4356000" y="765000"/>
            <a:ext cx="1487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练 习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0" name="Group 10"/>
          <p:cNvGrpSpPr/>
          <p:nvPr/>
        </p:nvGrpSpPr>
        <p:grpSpPr>
          <a:xfrm>
            <a:off x="1979640" y="2708280"/>
            <a:ext cx="6192720" cy="3506760"/>
            <a:chOff x="1979640" y="2708280"/>
            <a:chExt cx="6192720" cy="3506760"/>
          </a:xfrm>
        </p:grpSpPr>
        <p:sp>
          <p:nvSpPr>
            <p:cNvPr id="561" name="Text Box 5"/>
            <p:cNvSpPr/>
            <p:nvPr/>
          </p:nvSpPr>
          <p:spPr>
            <a:xfrm>
              <a:off x="1979640" y="2708280"/>
              <a:ext cx="3313080" cy="350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前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后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左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的右面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6"/>
            <p:cNvSpPr/>
            <p:nvPr/>
          </p:nvSpPr>
          <p:spPr>
            <a:xfrm>
              <a:off x="4718160" y="3500280"/>
              <a:ext cx="345420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7"/>
            <p:cNvSpPr/>
            <p:nvPr/>
          </p:nvSpPr>
          <p:spPr>
            <a:xfrm>
              <a:off x="4716360" y="436572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8"/>
            <p:cNvSpPr/>
            <p:nvPr/>
          </p:nvSpPr>
          <p:spPr>
            <a:xfrm>
              <a:off x="4716360" y="522936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9"/>
            <p:cNvSpPr/>
            <p:nvPr/>
          </p:nvSpPr>
          <p:spPr>
            <a:xfrm>
              <a:off x="4716360" y="6093000"/>
              <a:ext cx="3454560" cy="0"/>
            </a:xfrm>
            <a:prstGeom prst="line">
              <a:avLst/>
            </a:prstGeom>
            <a:ln w="28440">
              <a:solidFill>
                <a:srgbClr val="065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6" name="Text Box 11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33">
            <a:hlinkClick r:id="rId1"/>
          </p:cNvPr>
          <p:cNvSpPr/>
          <p:nvPr/>
        </p:nvSpPr>
        <p:spPr>
          <a:xfrm>
            <a:off x="406728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4254480" y="59500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87229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55"/>
          <p:cNvSpPr/>
          <p:nvPr/>
        </p:nvSpPr>
        <p:spPr>
          <a:xfrm>
            <a:off x="4273560" y="6397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0" name="Group 67"/>
          <p:cNvGrpSpPr/>
          <p:nvPr/>
        </p:nvGrpSpPr>
        <p:grpSpPr>
          <a:xfrm>
            <a:off x="3058920" y="2708280"/>
            <a:ext cx="3673800" cy="1295280"/>
            <a:chOff x="3058920" y="2708280"/>
            <a:chExt cx="3673800" cy="1295280"/>
          </a:xfrm>
        </p:grpSpPr>
        <p:grpSp>
          <p:nvGrpSpPr>
            <p:cNvPr id="571" name="Group 36"/>
            <p:cNvGrpSpPr/>
            <p:nvPr/>
          </p:nvGrpSpPr>
          <p:grpSpPr>
            <a:xfrm>
              <a:off x="4284720" y="2779560"/>
              <a:ext cx="1224000" cy="1224000"/>
              <a:chOff x="4284720" y="2779560"/>
              <a:chExt cx="1224000" cy="1224000"/>
            </a:xfrm>
          </p:grpSpPr>
          <p:sp>
            <p:nvSpPr>
              <p:cNvPr id="572" name="Rectangle 37"/>
              <p:cNvSpPr/>
              <p:nvPr/>
            </p:nvSpPr>
            <p:spPr>
              <a:xfrm>
                <a:off x="428472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3" name="Line 38"/>
              <p:cNvSpPr/>
              <p:nvPr/>
            </p:nvSpPr>
            <p:spPr>
              <a:xfrm flipH="1">
                <a:off x="428472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4" name="Line 39"/>
              <p:cNvSpPr/>
              <p:nvPr/>
            </p:nvSpPr>
            <p:spPr>
              <a:xfrm>
                <a:off x="48970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5" name="Group 40"/>
            <p:cNvGrpSpPr/>
            <p:nvPr/>
          </p:nvGrpSpPr>
          <p:grpSpPr>
            <a:xfrm>
              <a:off x="5508720" y="2779560"/>
              <a:ext cx="1224000" cy="1224000"/>
              <a:chOff x="5508720" y="2779560"/>
              <a:chExt cx="1224000" cy="1224000"/>
            </a:xfrm>
          </p:grpSpPr>
          <p:sp>
            <p:nvSpPr>
              <p:cNvPr id="576" name="Rectangle 41"/>
              <p:cNvSpPr/>
              <p:nvPr/>
            </p:nvSpPr>
            <p:spPr>
              <a:xfrm>
                <a:off x="5508720" y="277956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7" name="Line 42"/>
              <p:cNvSpPr/>
              <p:nvPr/>
            </p:nvSpPr>
            <p:spPr>
              <a:xfrm flipH="1">
                <a:off x="5508720" y="339156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8" name="Line 43"/>
              <p:cNvSpPr/>
              <p:nvPr/>
            </p:nvSpPr>
            <p:spPr>
              <a:xfrm>
                <a:off x="61210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9" name="Group 60"/>
            <p:cNvGrpSpPr/>
            <p:nvPr/>
          </p:nvGrpSpPr>
          <p:grpSpPr>
            <a:xfrm>
              <a:off x="3058920" y="2779560"/>
              <a:ext cx="1224000" cy="1224000"/>
              <a:chOff x="3058920" y="2779560"/>
              <a:chExt cx="1224000" cy="1224000"/>
            </a:xfrm>
          </p:grpSpPr>
          <p:sp>
            <p:nvSpPr>
              <p:cNvPr id="580" name="Rectangle 61"/>
              <p:cNvSpPr/>
              <p:nvPr/>
            </p:nvSpPr>
            <p:spPr>
              <a:xfrm>
                <a:off x="3059280" y="2779560"/>
                <a:ext cx="122364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1" name="Line 62"/>
              <p:cNvSpPr/>
              <p:nvPr/>
            </p:nvSpPr>
            <p:spPr>
              <a:xfrm flipH="1">
                <a:off x="3058920" y="339156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2" name="Line 63"/>
              <p:cNvSpPr/>
              <p:nvPr/>
            </p:nvSpPr>
            <p:spPr>
              <a:xfrm>
                <a:off x="3671280" y="280980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3" name="Text Box 54"/>
            <p:cNvSpPr/>
            <p:nvPr/>
          </p:nvSpPr>
          <p:spPr>
            <a:xfrm>
              <a:off x="3059280" y="27082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72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飞马鸟</a:t>
              </a:r>
              <a:endParaRPr b="0" i="1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4" name="Text Box 6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4"/>
          <p:cNvSpPr/>
          <p:nvPr/>
        </p:nvSpPr>
        <p:spPr>
          <a:xfrm>
            <a:off x="2875320" y="3673440"/>
            <a:ext cx="91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324760" y="3673440"/>
            <a:ext cx="91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鸟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3148920" y="206064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仔细观察，这两个字有什么区别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4353840" y="10000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读一读组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188080" y="2689200"/>
            <a:ext cx="5969520" cy="24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看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马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左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着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鸟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右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（　　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"/>
                            </p:stCondLst>
                            <p:childTnLst>
                              <p:par>
                                <p:cTn id="2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419112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拓展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932120" y="2781360"/>
            <a:ext cx="6527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宋体"/>
              </a:rPr>
              <a:t>　　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走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!  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小朋友们，我们一起到操场去找找自己的影子吧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图片1"/>
          <p:cNvPicPr/>
          <p:nvPr/>
        </p:nvPicPr>
        <p:blipFill>
          <a:blip r:embed="rId1"/>
          <a:srcRect l="4188" t="430" r="0" b="0"/>
          <a:stretch/>
        </p:blipFill>
        <p:spPr>
          <a:xfrm>
            <a:off x="324000" y="569880"/>
            <a:ext cx="8820000" cy="6288120"/>
          </a:xfrm>
          <a:prstGeom prst="rect">
            <a:avLst/>
          </a:prstGeom>
          <a:ln w="0">
            <a:noFill/>
          </a:ln>
        </p:spPr>
      </p:pic>
      <p:sp>
        <p:nvSpPr>
          <p:cNvPr id="512" name="Freeform 7"/>
          <p:cNvSpPr/>
          <p:nvPr/>
        </p:nvSpPr>
        <p:spPr>
          <a:xfrm>
            <a:off x="1606680" y="4930920"/>
            <a:ext cx="3841560" cy="1919160"/>
          </a:xfrm>
          <a:custGeom>
            <a:avLst/>
            <a:gdLst/>
            <a:ahLst/>
            <a:rect l="l" t="t" r="r" b="b"/>
            <a:pathLst>
              <a:path w="2420" h="1209">
                <a:moveTo>
                  <a:pt x="144" y="778"/>
                </a:moveTo>
                <a:cubicBezTo>
                  <a:pt x="212" y="740"/>
                  <a:pt x="334" y="710"/>
                  <a:pt x="417" y="687"/>
                </a:cubicBezTo>
                <a:cubicBezTo>
                  <a:pt x="500" y="664"/>
                  <a:pt x="605" y="672"/>
                  <a:pt x="643" y="642"/>
                </a:cubicBezTo>
                <a:cubicBezTo>
                  <a:pt x="681" y="612"/>
                  <a:pt x="635" y="536"/>
                  <a:pt x="643" y="506"/>
                </a:cubicBezTo>
                <a:cubicBezTo>
                  <a:pt x="651" y="476"/>
                  <a:pt x="613" y="468"/>
                  <a:pt x="689" y="460"/>
                </a:cubicBezTo>
                <a:cubicBezTo>
                  <a:pt x="765" y="452"/>
                  <a:pt x="1022" y="467"/>
                  <a:pt x="1097" y="460"/>
                </a:cubicBezTo>
                <a:cubicBezTo>
                  <a:pt x="1172" y="453"/>
                  <a:pt x="1112" y="438"/>
                  <a:pt x="1142" y="415"/>
                </a:cubicBezTo>
                <a:cubicBezTo>
                  <a:pt x="1172" y="392"/>
                  <a:pt x="1195" y="362"/>
                  <a:pt x="1278" y="324"/>
                </a:cubicBezTo>
                <a:cubicBezTo>
                  <a:pt x="1361" y="286"/>
                  <a:pt x="1513" y="233"/>
                  <a:pt x="1641" y="188"/>
                </a:cubicBezTo>
                <a:cubicBezTo>
                  <a:pt x="1769" y="143"/>
                  <a:pt x="1936" y="82"/>
                  <a:pt x="2049" y="52"/>
                </a:cubicBezTo>
                <a:cubicBezTo>
                  <a:pt x="2162" y="22"/>
                  <a:pt x="2269" y="0"/>
                  <a:pt x="2322" y="7"/>
                </a:cubicBezTo>
                <a:cubicBezTo>
                  <a:pt x="2375" y="14"/>
                  <a:pt x="2420" y="44"/>
                  <a:pt x="2367" y="97"/>
                </a:cubicBezTo>
                <a:cubicBezTo>
                  <a:pt x="2314" y="150"/>
                  <a:pt x="2095" y="264"/>
                  <a:pt x="2004" y="324"/>
                </a:cubicBezTo>
                <a:cubicBezTo>
                  <a:pt x="1913" y="384"/>
                  <a:pt x="1853" y="422"/>
                  <a:pt x="1823" y="460"/>
                </a:cubicBezTo>
                <a:cubicBezTo>
                  <a:pt x="1793" y="498"/>
                  <a:pt x="1778" y="551"/>
                  <a:pt x="1823" y="551"/>
                </a:cubicBezTo>
                <a:cubicBezTo>
                  <a:pt x="1868" y="551"/>
                  <a:pt x="2042" y="430"/>
                  <a:pt x="2095" y="460"/>
                </a:cubicBezTo>
                <a:cubicBezTo>
                  <a:pt x="2148" y="490"/>
                  <a:pt x="2155" y="679"/>
                  <a:pt x="2140" y="732"/>
                </a:cubicBezTo>
                <a:cubicBezTo>
                  <a:pt x="2125" y="785"/>
                  <a:pt x="2034" y="763"/>
                  <a:pt x="2004" y="778"/>
                </a:cubicBezTo>
                <a:cubicBezTo>
                  <a:pt x="1974" y="793"/>
                  <a:pt x="1982" y="823"/>
                  <a:pt x="1959" y="823"/>
                </a:cubicBezTo>
                <a:cubicBezTo>
                  <a:pt x="1936" y="823"/>
                  <a:pt x="1936" y="763"/>
                  <a:pt x="1868" y="778"/>
                </a:cubicBezTo>
                <a:cubicBezTo>
                  <a:pt x="1800" y="793"/>
                  <a:pt x="1671" y="899"/>
                  <a:pt x="1550" y="914"/>
                </a:cubicBezTo>
                <a:cubicBezTo>
                  <a:pt x="1429" y="929"/>
                  <a:pt x="1217" y="845"/>
                  <a:pt x="1142" y="868"/>
                </a:cubicBezTo>
                <a:cubicBezTo>
                  <a:pt x="1067" y="891"/>
                  <a:pt x="1157" y="997"/>
                  <a:pt x="1097" y="1050"/>
                </a:cubicBezTo>
                <a:cubicBezTo>
                  <a:pt x="1037" y="1103"/>
                  <a:pt x="907" y="1163"/>
                  <a:pt x="779" y="1186"/>
                </a:cubicBezTo>
                <a:cubicBezTo>
                  <a:pt x="651" y="1209"/>
                  <a:pt x="439" y="1193"/>
                  <a:pt x="326" y="1186"/>
                </a:cubicBezTo>
                <a:cubicBezTo>
                  <a:pt x="213" y="1179"/>
                  <a:pt x="152" y="1186"/>
                  <a:pt x="99" y="1141"/>
                </a:cubicBezTo>
                <a:cubicBezTo>
                  <a:pt x="46" y="1096"/>
                  <a:pt x="0" y="974"/>
                  <a:pt x="8" y="914"/>
                </a:cubicBezTo>
                <a:cubicBezTo>
                  <a:pt x="16" y="854"/>
                  <a:pt x="76" y="816"/>
                  <a:pt x="144" y="77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5796000" y="3860640"/>
            <a:ext cx="3024000" cy="1368720"/>
            <a:chOff x="5796000" y="3860640"/>
            <a:chExt cx="3024000" cy="1368720"/>
          </a:xfrm>
        </p:grpSpPr>
        <p:sp>
          <p:nvSpPr>
            <p:cNvPr id="514" name="AutoShape 6"/>
            <p:cNvSpPr/>
            <p:nvPr/>
          </p:nvSpPr>
          <p:spPr>
            <a:xfrm>
              <a:off x="5796000" y="3860640"/>
              <a:ext cx="3024000" cy="1368720"/>
            </a:xfrm>
            <a:prstGeom prst="wedgeRectCallout">
              <a:avLst>
                <a:gd name="adj1" fmla="val -122074"/>
                <a:gd name="adj2" fmla="val 98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867280" y="3967200"/>
              <a:ext cx="29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       </a:t>
              </a: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知道这是什么吗？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6" name="Text Box 10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3950280" y="2433600"/>
            <a:ext cx="196380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7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2694240" y="3016080"/>
            <a:ext cx="444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们知道有关影子的哪些知识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3"/>
          <p:cNvSpPr/>
          <p:nvPr/>
        </p:nvSpPr>
        <p:spPr>
          <a:xfrm>
            <a:off x="4294080" y="569880"/>
            <a:ext cx="851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影</a:t>
            </a: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子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3059280" y="1628640"/>
            <a:ext cx="3960720" cy="51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前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后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常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常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跟着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就像一条小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黑狗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左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在右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影子常常陪着我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它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是我的好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朋友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3975120" y="9079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认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1692360" y="2421000"/>
            <a:ext cx="7200720" cy="392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ǐ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 qi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hòu 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ch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ē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zh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影  前  后  常  跟  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h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ē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i    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   t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ā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péng 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黑  狗  它  朋  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9" descr="11_200532322261679851"/>
          <p:cNvPicPr/>
          <p:nvPr/>
        </p:nvPicPr>
        <p:blipFill>
          <a:blip r:embed="rId1"/>
          <a:stretch/>
        </p:blipFill>
        <p:spPr>
          <a:xfrm>
            <a:off x="2735280" y="24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4487040" y="587700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4460040" y="191628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后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6620760" y="393228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444040" y="386064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056120" y="6271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学认方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1835280" y="2708280"/>
            <a:ext cx="662436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看图，说说太阳和影子各在小朋友的哪个方向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6" descr="图片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0920" y="476280"/>
            <a:ext cx="8867520" cy="63882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8"/>
          <p:cNvSpPr/>
          <p:nvPr/>
        </p:nvSpPr>
        <p:spPr>
          <a:xfrm>
            <a:off x="2967120" y="5935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967120" y="58644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675520" y="526896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6636600" y="12366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前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8214120" y="4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影子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1:55:3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